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90F-6730-4422-914C-A3A09A68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03D-825C-4E92-80D7-918EAB26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FBC-64B5-43F1-8294-76BA570C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9CB-D666-4433-8232-9E8C0E93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01C8-606D-4023-962A-B3105D5E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ED8D-70CF-46F8-B527-1DE9A870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C234-938B-4A63-A376-BCC82C51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6F80-6AA5-48D9-8CFD-D4FF1ECF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8F5F-4300-430B-8D22-2A41647F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9B2F-8872-46D9-BE7D-74775702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C4D6-D450-4791-88ED-6588607A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777-5306-4917-AF97-76225B69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3E42-4A31-4B89-B9F4-545A4014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A1E7-B5B3-42F9-9D7E-D7FA8F28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4A01-272C-4505-BB11-9B508939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0E07-A65C-4416-B5F8-199531B5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2A10-9B9F-4755-8FE3-8BB585A1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53669-9593-4601-8428-B780149C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7125-FFBC-479A-9E18-04E6F57F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128AE-A675-4254-BEC5-C95F5009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BFC5-E0B8-474F-A860-D6B7C271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E7A6-61BA-486E-B13C-FE31D890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582-5149-4630-AAFE-E2C4928E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4735-A560-4694-8699-DDFE2ED4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DD9B-B7C7-4329-AE53-1D0497F0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6D6FF-6548-4929-891D-E76FFB52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E24C-1DDA-452C-A36A-13AF5F6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B197-81AF-4EAF-AFC7-C3A96FCD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A8C3-E26E-4627-8154-34ED027F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D033B-DCE6-4F28-9C4D-15619F39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4A2-D691-493B-8671-696A6796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AE4-C3D4-4019-9F9E-987BA9F7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B11-8DAF-4FC9-B077-56B094CE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725-41D2-4552-80BF-7844B2A1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8CD-66AE-4BF8-8B88-1DE39A12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CE6-08E3-4AE2-9748-5F0B40EF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2840-41B6-4552-AF91-4772822F5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6984-2CBF-47B1-A160-F41BC92352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B3CB-B954-40D8-892B-32F5AEED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laboratory practi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80010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NG OF SPECIFIC EFFECTS ON EXPERIMENTAL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85880" y="2000160"/>
            <a:ext cx="81072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TION                                DOG, RAT RESPIRATION                                RAT, GUINEA 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                   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ATOLOGY                               MOUSE,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LOGY                                 CAT,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MONES                                   RAT,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URESIS                                      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6"/>
          <p:cNvSpPr/>
          <p:nvPr/>
        </p:nvSpPr>
        <p:spPr>
          <a:xfrm flipV="1">
            <a:off x="4140360" y="214236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7"/>
          <p:cNvSpPr/>
          <p:nvPr/>
        </p:nvSpPr>
        <p:spPr>
          <a:xfrm flipV="1">
            <a:off x="4140360" y="342828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8"/>
          <p:cNvSpPr/>
          <p:nvPr/>
        </p:nvSpPr>
        <p:spPr>
          <a:xfrm flipV="1">
            <a:off x="4140360" y="39283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9"/>
          <p:cNvSpPr/>
          <p:nvPr/>
        </p:nvSpPr>
        <p:spPr>
          <a:xfrm flipV="1">
            <a:off x="4140360" y="435708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ight Arrow 10"/>
          <p:cNvSpPr/>
          <p:nvPr/>
        </p:nvSpPr>
        <p:spPr>
          <a:xfrm flipV="1">
            <a:off x="4140360" y="4786200"/>
            <a:ext cx="928440" cy="21456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11"/>
          <p:cNvSpPr/>
          <p:nvPr/>
        </p:nvSpPr>
        <p:spPr>
          <a:xfrm flipV="1">
            <a:off x="4140360" y="25711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12"/>
          <p:cNvSpPr/>
          <p:nvPr/>
        </p:nvSpPr>
        <p:spPr>
          <a:xfrm flipV="1">
            <a:off x="4140360" y="3000240"/>
            <a:ext cx="928440" cy="21456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7120" y="1214280"/>
            <a:ext cx="8377200" cy="16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ts val="38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onditioning of laboratory animals – immobilization and anesth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500200" y="3143160"/>
            <a:ext cx="4643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56760" y="21420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obilization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echan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ifferent apparatus for susp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harmacolog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urgical anesthes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lectro-acupuncture anesthes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imulation of acupuncture points = opioid substances secre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4297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anesthe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he application of drugs that block the transfer of pain in the sensory nerves of selec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83920"/>
            <a:ext cx="6084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nesthe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ade of 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s (on cytoplasmic side) – enables the generation of action potent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myelinated fibers (and thinner myelinated fibers) are blocked first = pain, temperature (C, Aδ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elinated fibers (Aα,  Aβ) are blocked later = touch,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http://amaprod.silverchaircdn.com/data/Journals/JAMA/22468/m_jpg15020fa.png"/>
          <p:cNvPicPr/>
          <p:nvPr/>
        </p:nvPicPr>
        <p:blipFill>
          <a:blip r:embed="rId1"/>
          <a:stretch/>
        </p:blipFill>
        <p:spPr>
          <a:xfrm>
            <a:off x="6093000" y="2133720"/>
            <a:ext cx="3051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2560" y="2708280"/>
            <a:ext cx="70930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cross reaction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nsitivity after 10 minutes (up to couple of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f administ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pical (spraying or dro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cal infiltration (by in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lock anesthesia (near nerves ro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pinal anesthesia (subarachnoid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pi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5" descr="http://www.intelligentdental.com/wp-content/uploads/2012/02/lokalna-anestezija.jpg"/>
          <p:cNvPicPr/>
          <p:nvPr/>
        </p:nvPicPr>
        <p:blipFill>
          <a:blip r:embed="rId1"/>
          <a:stretch/>
        </p:blipFill>
        <p:spPr>
          <a:xfrm>
            <a:off x="5987880" y="4508640"/>
            <a:ext cx="3156120" cy="2349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250920" y="404640"/>
            <a:ext cx="79930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local anesthe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aine, tetracaine – short effect, about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docaine, bupivacaine – prolonged effect, up to 1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216000" y="2205000"/>
            <a:ext cx="58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repinephrine is usually added  to delay drugs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264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anesthe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eversible, selective inhibition of C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GESIA = absence of 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FLEXIA  = absence of deep tendon re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NIA        = absence of skeletal muscles to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7120" y="2571840"/>
            <a:ext cx="8663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hieve analgesia, areflexia, and atonia while preserving respiration and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le 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ory – difficult for do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– short lasting, up to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isk of overdose – CNS, C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7120" y="78552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anesthesia administ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f anesthetic g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ve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ory anesthe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s – diethileter, methoxyfluran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ated hydrocarbons – halothane, trichloroethylen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us oxide (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anesthetic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opental sodium (ultra-short-acting barbitu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mi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60008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anesthesia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7640" y="1341000"/>
            <a:ext cx="5715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nalg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xcitation (delir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Surgic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Medullar par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292720" y="2565360"/>
            <a:ext cx="3851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360" y="260280"/>
            <a:ext cx="9036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ANALGES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from the moment of administration to the moment of unconsciousness, touch sensation preserved -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 on brain cor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EXCITATION (DELIRIUM)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from the moment of unconsciousness to the moment of spinal reflexes turn off.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ver reactivity, irregular breathing, increased muscle tone, mydriasis... Premedication can prevent or inhibit this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3. SURGICAL ANESTHES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begins with skeletal muscles atonia and spinal reflexes turn off. Suitable for surgical interven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gular and slow breathing, decrease muscle tone, swallowing reflex turn off, circular eye movements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 on spinal c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4. MEDULLAR PARALYS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if overdose the anesthetics may in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e paralysis of brain 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irregular heartbeat with hypotension, respiration paralysis, sphincters relaxation, mydriasis with no response to light sensatio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492280"/>
            <a:ext cx="852012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oratory animal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re selected species and housed in controlled populations, and used for research and testing to study about diseases, biological products, vaccines, etc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oice depends on the type and aims of the experiment, but the animal must be HEALTHY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common laboratory animals ar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mi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guinea pig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bb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frog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dog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ca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pr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11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NUAL EXPENDITURE FOR EXPERIMENTAL ANIMALS IN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642960" y="1643040"/>
            <a:ext cx="78771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OTAL NUMBER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s, mice, guinea pig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6.400.000       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bbit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3.300.000     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rds, frog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5.000         0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gs                                               84.00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0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g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2.000          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t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9.000         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n-human primat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60.000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ta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.000.00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631692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s and 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1143000"/>
            <a:ext cx="6000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ability to ada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genome size and number of genes as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reproductiv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t expensive, easy to handle and suitable for various mani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strains are developed through selection (knock out seri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y, virology/bacteriology, oncology, hematology,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ouse"/>
          <p:cNvPicPr/>
          <p:nvPr/>
        </p:nvPicPr>
        <p:blipFill>
          <a:blip r:embed="rId1"/>
          <a:stretch/>
        </p:blipFill>
        <p:spPr>
          <a:xfrm>
            <a:off x="6215040" y="928800"/>
            <a:ext cx="26240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6316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nea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600" y="11966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es of herbivorous rodent originating from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, part of national cuisine (Peru, Boli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reproductiv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y, microbiology, endocrinology, immu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4500720" y="3857760"/>
            <a:ext cx="37861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18572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85560"/>
            <a:ext cx="5429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dis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ob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lso bred as domest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logy, virus isolation, serum and vaccine standardization, isolated organs - 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00840" y="1143000"/>
            <a:ext cx="2643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314316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gs and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680" y="1214280"/>
            <a:ext cx="7858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ly, they have been used mor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new surgical techniques (transpla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– gastrointestinal physiology and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929120" y="3786120"/>
            <a:ext cx="34290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285840" y="3786120"/>
            <a:ext cx="4000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221472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6760" y="1213920"/>
            <a:ext cx="5286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model for examination of diseases in huma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 - they are extremely expensive, so they are used l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baby-02_small"/>
          <p:cNvPicPr/>
          <p:nvPr/>
        </p:nvPicPr>
        <p:blipFill>
          <a:blip r:embed="rId1"/>
          <a:stretch/>
        </p:blipFill>
        <p:spPr>
          <a:xfrm>
            <a:off x="5715000" y="1071720"/>
            <a:ext cx="27986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15001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0040" y="128556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studying the physiology of muscles, nerves and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71880" cy="235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6072120" y="37148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55:53Z</dcterms:created>
  <dc:creator>Maja</dc:creator>
  <dc:description/>
  <dc:language>en-US</dc:language>
  <cp:lastModifiedBy>Korisnik</cp:lastModifiedBy>
  <dcterms:modified xsi:type="dcterms:W3CDTF">2023-10-10T09:49:49Z</dcterms:modified>
  <cp:revision>167</cp:revision>
  <dc:subject/>
  <dc:title>Slide 1</dc:title>
</cp:coreProperties>
</file>